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B34-0106-4B0D-93EC-B253228B9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221-32E2-453A-A983-66BAEB47A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E9B-7533-48D9-9B9D-AA38869B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Rescheduling or Renaming Memorized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46AC-B062-4B24-814E-0049B267A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Editing Memorized Trans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382-D32F-4D83-9C3A-D64009A9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deleting a memorized trans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541D-3634-4104-8ACB-E3CD3D47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5083-57C0-472D-9C8F-F1EBD319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A68-577B-4448-AD65-1C8F2EB7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closing sole proprietorship drawing accou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140-FCD4-476F-BDE0-36311E96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losing partnership drawing acc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8575-6240-4138-AB16-76171A9C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distributing net income to partn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4579-5602-488D-B238-E8E81A24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setting the closing d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67A-B51B-4B74-B27F-A5BEFA8B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4B8-6A90-4581-913E-F683C482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EC61-F88B-4D1B-9F69-794A7653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Editing Transactions. Demo Voiding and Deleting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DFF-4A28-4440-93E1-836E6898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E52-DCFC-4A14-AC69-EB87E842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Creating A General Journal E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2B2-24D8-4AFD-AE24-D938E4CF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188-2D63-4FAB-A28E-A1B01BCC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reating a Zero-Dollar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8C06-7C0C-47C2-9A25-CFD1D007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79C0-23BE-4461-BB0C-23F85269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Memorizing Journal E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B7E7-704A-4BEB-8D36-3FBF2B0EE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75C3-A70D-48A3-AFC5-E7349D48A4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7AAC-1F34-45FF-B02F-02348E4C9A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909C-85F7-4F2D-976A-53FCDB9309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01D1-C3A5-42B5-B7D7-9ED179A18D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91D7-192D-45BB-811B-9B04BEECB44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D9B6-F518-4B16-86C4-6C1DBB3B74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5E34-BF4A-4A14-969B-A262C448B7B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AD59-114B-4F68-B096-FAF9954F63F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AC15-0117-4D85-BD55-A15CC05CFF7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83A4-1293-4447-A8C7-8ABB46E070A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4F95-4F16-4C71-8361-C11A8FE8C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DEE7-7DEB-4CC8-9E7E-5094CB436C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D58D-6CE5-4A3A-98C5-CE19C7E2297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03DF-D5C7-488E-AF3F-7D871A3B319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720A-DBFE-4A3B-A035-4DCEB4B2168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ECF9-DEFA-44D0-9D75-140F586FBB8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8B9-650A-4B0A-BE3C-120D33A4FBC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C42-EA95-4138-9493-914A5DFF903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6A2-091F-4D5F-A8B3-281BB592AF3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6A9-3B35-46FC-A4F0-90B92FF018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3F6-F048-499A-A5C2-D401A23B8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6019-9191-4B65-B66D-0A155D5D1F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EE6-02B5-4FD0-AC42-03568280F4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D6A-6438-4B7A-8AA0-054BF34E20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938-D3E4-4913-8437-2ABC4C5AE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3D6-EA64-4403-A16E-AB20ADCF17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A11-78E4-42F6-BAFD-B310D85579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6C4-241F-46CE-ADF2-9392EEEF51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2C2-B35F-499F-806A-41468EAADC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CEB0-583C-4FBD-B93E-265E56BB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851-ADFB-4D0D-A0CF-F2CA5D5D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4D11-EDA3-4EA7-857A-B4F4948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DC5B-9B09-4A35-80F9-62EE8D79FD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A6C0-4017-48EA-8129-22BA86BA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14B5-262B-47EF-B846-D54505B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1BCB-5C26-432D-B26A-8F753BE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BE03-86F9-47E1-83A5-E4192DC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1186-D237-44AC-A2A1-9368CCC6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A6D-C95E-4BE4-8E99-1ACAC19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721-1E7B-4A60-B21B-DC44C17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A4FC-A4CB-4106-B988-DF5F65A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436A-E0DE-47DD-93DA-3CC1B605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C460-4D16-4E4F-B72D-F697B05F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0358-A56C-4FD4-B152-CE9C558183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BD11-D1DE-4C4B-8027-F041DC1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B714-699A-4040-BBA6-D886FEB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A4D5-2AB9-4AA2-A83F-5DEAB31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8EC4-0BBD-44C4-915F-98FCBDC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B536-A070-495C-A267-D62B634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3855-BE6A-4B08-B8F9-E5D6AA5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A64D-0D43-4323-B41D-0430A0C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4DDE-4780-4C18-9C22-98C0435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4AA3-12DD-456C-B495-919C2071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1DDC-C86F-4B85-A5C4-7708A60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F84E-DAF5-49A0-918E-3B7743E7D9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112F-1444-4663-909B-1B1BBE5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8A12-4108-4796-A249-195B571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AA61-0A6A-4FC6-A722-528287C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A418-6F17-4BFA-9132-EF7F91A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FA52-92B4-4BC5-A6DF-3E5B8FA3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DCD8-B048-41EF-8939-DDFDBDD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9F68-7A5E-40F7-9479-39AFA1D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DDC0-0B87-4600-8762-2D1C5EC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DA92-2345-4802-BCED-55A2E26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291E-9C7B-4010-BDAB-77502F17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0DC0-E9C7-44DA-A6F2-B42075E2BF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D3E2-468D-4B60-BFCC-1D808B7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FD1A-C559-42F0-B5C2-87AC361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1C3A-90E8-4005-A4B6-0AC1F8DA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2841-A575-4947-8CF7-CCACBA6536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5108-28C5-41F3-94DC-32DAF5D512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BBB-1134-4FF1-9ABD-C2235E432D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685-4CAD-4753-BF70-CFAB670159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4F6-DD1B-45F8-BC63-443C7B01D7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55B-178B-4417-B1EC-E239F14BA3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D7D3-AEC3-4B96-BF94-35E47BA81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455A-AD31-45F4-8DD1-35A4BAC599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56520" cy="213984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Rectangle 4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521920" cy="1573200"/>
          </a:xfrm>
          <a:prstGeom prst="rect">
            <a:avLst/>
          </a:prstGeom>
          <a:ln w="0">
            <a:noFill/>
          </a:ln>
        </p:spPr>
      </p:pic>
      <p:sp>
        <p:nvSpPr>
          <p:cNvPr id="1044" name="Rectangle 10"/>
          <p:cNvSpPr/>
          <p:nvPr/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nu and then sele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ized Transaction L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press CTRL+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transaction i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morized Trans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n select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u and sele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dit Memorized Transacti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press CTRL+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reschedule or rename the transaction, but it does not allow you to edit the actual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50080" cy="123012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7"/>
          <p:cNvSpPr/>
          <p:nvPr/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dit the Truck Depreciation memorized transaction, double-click it in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ized Transaction Li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plays a new transaction with the contents of the memorized transaction. You can change anything on the transaction and then rememoriz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Picture 4" descr="SNAGHTML1300c16"/>
          <p:cNvPicPr/>
          <p:nvPr/>
        </p:nvPicPr>
        <p:blipFill>
          <a:blip r:embed="rId2"/>
          <a:stretch/>
        </p:blipFill>
        <p:spPr>
          <a:xfrm>
            <a:off x="1600200" y="4191120"/>
            <a:ext cx="582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Rectangle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600760" cy="11635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Lists menu and then select Memorized Transaction List, or press CTRL+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Memorized Transaction in the list that you want to dele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Edit menu and then select Delete Memorized Transaction, or press CTRL+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 txBox="1"/>
          <p:nvPr/>
        </p:nvSpPr>
        <p:spPr>
          <a:xfrm>
            <a:off x="5335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e end of your company’s fiscal year, QuickBooks automatically transfers the net income into Retained Earn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Books calculates the balance in Retained Earnings by adding together the total net income for all prior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reports for the year and verify their accura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djusting entries as necessary and rerun the repor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and file the following reports as of your closing date: General Ledger, Balance Sheet Standard, Statement of Cash Flows, Trial Balance, Inventory Valuation Summary, and Profit &amp; Loss Standard for the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k up your data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the closing date to the last day of the period you are clo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772840" cy="157320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ole Proprietorships, the Retained Earnings account should be renamed to Owners Equity so that the net income (or loss) will automatically transfer into this accou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t the end of each year, create a General Journal Entry to zero out the Owners Drawing account and close it into Owners Equ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best to let the balance in the Owner Investments account continue to accumulate over time, so that, the Balance Sheet will always show the total investments made by the own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 txBox="1"/>
          <p:nvPr/>
        </p:nvSpPr>
        <p:spPr>
          <a:xfrm>
            <a:off x="457200" y="1676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a General Journal Entry to close the Partner’s Drawing accounts into each Partner’s Profits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find the amounts for the General Journal Entry, use the year-end Trial Bala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8" name="Picture 4" descr="SNAGHTML1671df2"/>
          <p:cNvPicPr/>
          <p:nvPr/>
        </p:nvPicPr>
        <p:blipFill>
          <a:blip r:embed="rId2"/>
          <a:stretch/>
        </p:blipFill>
        <p:spPr>
          <a:xfrm>
            <a:off x="1447920" y="4038480"/>
            <a:ext cx="6559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515440" cy="11700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 txBox="1"/>
          <p:nvPr/>
        </p:nvSpPr>
        <p:spPr>
          <a:xfrm>
            <a:off x="45720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partnerships, use a General Journal Entry to distribute the profits to each of the partner’s profit accou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fter making all adjusting entries, create a Profit &amp; Loss report for the year and use the Net Income figure at the bottom of the Profit &amp; Loss report to create the General Journal En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61" name="Picture 5" descr=""/>
          <p:cNvPicPr/>
          <p:nvPr/>
        </p:nvPicPr>
        <p:blipFill>
          <a:blip r:embed="rId2"/>
          <a:stretch/>
        </p:blipFill>
        <p:spPr>
          <a:xfrm>
            <a:off x="1425600" y="3886200"/>
            <a:ext cx="6292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llows the Administrator to set a closing date that effectively locks the file so that no one can make changes to the file on or after a specified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further protection, all users, including the Administrator, can be required to enter a password before they can add, change or delete transactions dated on or before the closing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 general journal e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morize and schedule transactions to be automatically enter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se the year and enter special transactions for sole proprietorships and partnership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t the closing date to lock the company fil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 txBox="1"/>
          <p:nvPr/>
        </p:nvSpPr>
        <p:spPr>
          <a:xfrm>
            <a:off x="45720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Edit, void, and delete transaction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Enter general journal entri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Memorize and schedule transactions to be automatically entered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ose the year and enter special transactions for sole proprietorships and partnership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t the closing date to lock the company file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nlike many other accounting programs, QuickBooks allows you to change any transaction at any 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edit a transaction, change the data directly on the for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ing and deleting transactions both zero out the debits and the credits specified by the transac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iding keeps a record of the date, number, and detail of the trans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leting a transaction removes it completely from your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759880" cy="157320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ing entries are transactions that adjust the balance of one or more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few examples of adjusting entries in QuickBook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ategorize a transaction from one class to ano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ategorize a transaction from one account to ano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e prepaid expenses to each month throughout the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ord non-cash expenses, such as deprec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ose the Owner’s Drawing account into the Owner’s Equity accou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67720" cy="12301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8"/>
          <p:cNvSpPr/>
          <p:nvPr/>
        </p:nvSpPr>
        <p:spPr>
          <a:xfrm>
            <a:off x="457200" y="160020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eed permission from the file Administrator to create General Journal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 and then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Journa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4" descr="SNAGHTML129239c"/>
          <p:cNvPicPr/>
          <p:nvPr/>
        </p:nvPicPr>
        <p:blipFill>
          <a:blip r:embed="rId2"/>
          <a:stretch/>
        </p:blipFill>
        <p:spPr>
          <a:xfrm>
            <a:off x="3048120" y="29718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67720" cy="123012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5"/>
          <p:cNvSpPr/>
          <p:nvPr/>
        </p:nvSpPr>
        <p:spPr>
          <a:xfrm>
            <a:off x="4572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Ti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bank account called Journal E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account (Journal Entries) on the top line of each General Journa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tracks all the General Journal Entries in a separate register on the Chart of Accounts which allows you to quickly look up and view all your General Journal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you use this account in every General Journal Entry, you will never debit or credit the account and therefore it will never have a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’t adjust items in the Journal Entry wind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need to adjust items, use a “Zero-Dollar Check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-Dollar Checks have an equal amount of debits and credits in the splits area of the transactio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7210440" cy="4629240"/>
          </a:xfrm>
          <a:prstGeom prst="rect">
            <a:avLst/>
          </a:prstGeom>
          <a:ln w="0">
            <a:noFill/>
          </a:ln>
        </p:spPr>
      </p:pic>
      <p:sp>
        <p:nvSpPr>
          <p:cNvPr id="1039" name="Oval 5"/>
          <p:cNvSpPr/>
          <p:nvPr/>
        </p:nvSpPr>
        <p:spPr>
          <a:xfrm>
            <a:off x="1066680" y="4191120"/>
            <a:ext cx="49532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9"/>
          <p:cNvSpPr/>
          <p:nvPr/>
        </p:nvSpPr>
        <p:spPr>
          <a:xfrm>
            <a:off x="30492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saving the General Journal En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Ed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Memorize General Journal (or press CTRL+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fields in Memorize Transaction window to indicate when and how often you want the transaction entered and then 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4" descr="C:\Users\DPEMBR~1\AppData\Local\Temp\SNAGHTML1681f3a7.PNG"/>
          <p:cNvPicPr/>
          <p:nvPr/>
        </p:nvPicPr>
        <p:blipFill>
          <a:blip r:embed="rId2"/>
          <a:stretch/>
        </p:blipFill>
        <p:spPr>
          <a:xfrm>
            <a:off x="2017800" y="4191120"/>
            <a:ext cx="510840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56:45Z</dcterms:modified>
  <cp:revision>249</cp:revision>
  <dc:subject/>
  <dc:title>Chapter 9 Adjustments and Year End</dc:title>
</cp:coreProperties>
</file>